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AB94-AC99-400E-BC2B-047EF86DE2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66BC-DA04-4C39-8E03-37E3698F7CF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71A7-DC86-46E4-8D80-3D53C67DE1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169A-2AC5-4FDC-81BE-8108E0627C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9783-50DE-4117-8734-7283D73657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92F2-FF39-47D7-A4D5-9D3AF04CB7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3935-8863-44E1-904F-64BEF54B06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77B9-B9F7-4C7B-88B9-A528854147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1E0E5-2D2B-40C0-A40C-C17FA1EAF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E624-31B5-4EED-85AF-E3179E390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A7E2C-5D2C-4598-A207-48E544CA0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D6EAD-1786-4D0E-A61E-45F5F53BA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D4092-D693-4F9C-A18A-173141ADE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7E1F4-315F-4BC4-A925-9B18CEBAC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2626-AA59-4E8F-8AC1-1D7ACEED4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69EB6-362E-4953-B9E2-A09476B15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B0369-F8B7-4D9C-9CE1-F6D0C1DA3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C69D-B16A-4BB2-9E37-EF1929EF7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FF8A8-95BD-4DB0-A1CA-45DB3E008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3D29F-271E-41D0-96CC-3EEBD62AA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89E5F-0C3E-46B5-AE1F-1CE0051E1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9B9FB-2E0F-4BD7-A9E3-287F793D7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3129E-D125-4CC3-A4ED-EDC2B1EB1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46286-3CEA-4DB3-A8F8-06D3FDD36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0BFC8-D451-4621-BCBA-76FA31AD1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47F261-4580-4A21-94DB-2B0A65A3A6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97E1AC-4440-45C8-AFD4-D2A80B730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9CE3DF-91DD-4B14-88D0-3480D81BF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61173A-FA25-4656-8D80-AE2DCF6CC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EE37DF-AB95-4C9B-B9C0-996E92B66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F2BF6-88E1-4BB8-883E-E22E441F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0B085E-2FFC-4D29-BF6D-9C6D3B258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97B5C2-4EAA-4F5C-9E92-5A31A0056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D5A273-1BAD-4041-B016-0DF6D4AF7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3CF6CF-C1FF-4FB1-B844-01CDDBCAE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A20401-8EC5-48EF-916B-EFF8A3651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969ED17-6302-41C3-938B-4A82EDB8F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0DD851-90F4-4904-97FE-FF53A1CF5C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34AE7-F860-4C86-9A5A-02E1E5079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2C5B7D-984B-499A-A938-CEB8A7C91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D6C8F-33A3-4899-9382-E37648CBA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03E9-8670-4D17-B3FE-778A7850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BA5E7-8546-421D-9581-5981B9221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66691-780D-4106-8203-3921057527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9565E-3DCB-44BC-AE67-F540B3177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32F31-07A0-4EF9-A942-9E8E17174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4B6C7-A276-4755-8513-3BF404C33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2C034-6E5A-4030-9137-FB2964A18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52FAF-16A8-410F-8926-33FDEF5AF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A89E9-E271-4E68-9A1C-8BC84F3FB9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F20782-620A-402E-86E9-E01A3EE3CC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B02B3E-C066-4DC7-87B3-531859097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AE4BF-1B25-41DC-8430-25DF988F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D9A35A-0B48-4C9A-A263-DEF555BCE5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646EBA-79AA-4AAA-B97F-E1104EEF2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0775B4-7142-498B-85EF-D679695E2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ED58CE-BC56-4EDC-994C-01C761051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889A1D-1C73-4B89-B7D7-5AF93B1D9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97A0CF-B542-4487-8AFC-9AC1E31C6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9C1709-A2E6-417B-8B9A-A50EF1184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7DD2BA-BFF3-4536-8677-471D4F845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CF0031-3E8C-4EEA-BC6E-112F972BA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5EEE70F-087A-40DF-A743-112C4658F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0B2B-475C-4E80-B320-39BD7F590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0E5C714-7E15-48F7-A584-AD192432EE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DCCC04A-3834-4F77-827B-E77C6DE32D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92270F-5D1A-443E-AE8B-7F3788E37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3E92390-B2B3-4070-A58E-C084D7556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55BDBC0-888C-414E-A4CB-8C15ABF10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55C6260-0C26-44CE-81B2-096A4D0D5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B3A3A1-D24F-4E71-9F25-79FE060D36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4CF033-57C1-47EC-9132-DA8076BAA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395CF8-CA1B-40B4-AC07-569A4D943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4C0905-3802-4DD8-A105-570F01C85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EAC5-17D0-4993-A24E-98C52350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17493D-F879-4A94-9534-4EEE194BC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A92A31D-AA79-4241-845C-C54AF415CD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892967-3389-4291-AB9E-86E760FCBB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D7E9D6A-72BA-49C7-969B-E391488274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DAB6DB-1554-4891-8FDC-082BE4307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2BEB60-94F3-474C-A855-CBA7EBF2F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129541-50EF-4451-A15C-C9836D94EE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E9F564-A470-48D7-AB6C-F87939494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E42F82-4E51-412C-A68A-0C774B906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FF0720-8CF6-410E-84EE-630A6DD76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78C8-79D3-4C1B-BFF8-DD2EE69F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F74516-F8E5-4E2A-9FFB-5F68C3B45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F4ECD3-FD06-4E18-B35C-2A98B355F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7DB8C1-D7F2-4B76-8D5B-D5B5BB9BC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9F1521-E54C-4F6B-B3FC-8AA2F991C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D307FF-C601-47CC-8F5A-7853548301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BE8F-3319-4FFB-BB5A-35664DDB5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6498-26E2-437B-B98A-65C860E5A0EA}"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A35C-15AB-4F93-ACFD-87B38DBDB5CF}"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75FF-8EEB-4FA8-AB49-454FEDE6B4E7}"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FE21-5406-4626-A888-68690CEAF2BF}"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9D36-0990-4F80-9FE7-F178FFAEBDE7}"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9812-618F-4F1B-812D-5E2F0C5AFFB4}"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AFA0-C0D9-46F3-82C3-C11E59C5F553}" type="datetime">
              <a:rPr b="0" lang="en-US" sz="1200" spc="-1" strike="noStrike">
                <a:solidFill>
                  <a:srgbClr val="fff39d"/>
                </a:solidFill>
                <a:latin typeface="Constantia"/>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DDB4-6272-4E23-9924-C7BDED267CFF}"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2967-9B65-4B5E-BC21-693183382047}"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436D-9789-493D-91D9-625DCBFB0D4E}"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20D0-7B17-4FEB-AA7C-A0F7E93FC9CC}"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6F8A-6478-4C8B-9E04-EB7C140E2002}"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4386-3CE2-452D-859A-209D846BDC13}"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F2F5-F863-4496-8385-3707C4214F10}"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